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BE2A-51C9-44F6-864A-9BCDE43C7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800A-FC7A-49F2-9131-6FE4A3E65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rakai forest (Lithuania?) from: http://andreasmoser.wordpress.com/2012/07/07/trak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6FC6-98A7-4EA3-BDBA-EF9CAF445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Kraus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ubmoss: http://21stcenturynaturalist.blogspot.ca/2010/07/lycophytes-are-living-fossi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ACF0-E99A-4AE0-85E6-C3F12F241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Massachussets fern from: http://21stcenturynaturalist.blogspot.ca/2010/07/lycophytes-are-living-fossi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dox/altg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6785-2920-41C4-A59F-4D8AC8AF6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D6F4-3925-45B7-A5B0-82A0C1D11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b.nicerweb.net/Locked/media/ch3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C43A-3C39-48F4-A53D-4DA7415BA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clc.uc.edu/courses/bio106/gymnosp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5223-247E-470D-A5CA-549CA6CF6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labs.utah.edu/sperry/proje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2DD8-6CCE-415C-A4A7-83ADF5C62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sites.google.com/site/botany317/session-2/eukaryotes/plants/session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A6F1-6CDB-445F-BACA-802399CB2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ussex3d.com/avon-wheatbelt/flower-and-honeyeat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EB95-20FB-4966-A32D-A0242C4BB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learner.org/courses/essential/life/session4/closer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2699-C702-4F8E-A983-8381BF48A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raphicpanic.com/beautiful-leaves-backgroun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D640-48C9-46EF-A4EE-326C4927F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spaliers.com.au/maintaining-your-plan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nx.org/contents/HEWmanoj@6/Evolution-of-Seed-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F8B5-E01B-4554-B42F-ED299A7FE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justanswer.com/tax/0e5hx-cross-section-monocot-leaf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E0C6-63B0-448D-8395-1352EF4B9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ohioplants.org/bryophytes-introduc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3FDC-882F-4E11-9724-B144AA137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4ACE-D607-4E12-A608-E0F6764EF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fkeep.org/html/stitch.php?s=54373324154293&amp;id=7774881383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commons.wikimedia.org/wiki/File:Moss_alternation_of_generations_03-2012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CBE3-FF44-41F6-AF66-BBA605042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636-04D1-4B0D-A512-1F00CD7A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67C-4F64-4AE0-9553-32B5DE63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681-04B3-48ED-A5E9-FB285DD3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4C7-9245-4A9D-B3A8-BC74A6B7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3DC-518C-4299-9EA0-FDA62BD5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E83-B482-4BE5-A289-23C11D88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B1C-D319-4E63-801A-B2715FD4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3B0-F75E-4A53-B6A2-006652EB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6D2-6BA3-4FD8-A14F-9E573D94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241-9453-4553-835D-931357D4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48F-D4B0-4E8A-BAD8-708286CE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AF0-F116-4D3B-BB58-5DD8DC1F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5D25-602D-41A5-A5A8-B469F1A35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Plan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ycophytes (club mo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SCF6428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erophytes (ferns &amp; relativ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SCN3187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" descr="fern_altgen.jpg"/>
          <p:cNvPicPr/>
          <p:nvPr/>
        </p:nvPicPr>
        <p:blipFill>
          <a:blip r:embed="rId1"/>
          <a:srcRect l="-13344" t="0" r="-1334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30_04aGymnospermConiferophyta"/>
          <p:cNvPicPr/>
          <p:nvPr/>
        </p:nvPicPr>
        <p:blipFill>
          <a:blip r:embed="rId1"/>
          <a:stretch/>
        </p:blipFill>
        <p:spPr>
          <a:xfrm>
            <a:off x="1593720" y="1600200"/>
            <a:ext cx="5956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SC 9805&amp;06 male &amp; female pine cones 3"/>
          <p:cNvPicPr/>
          <p:nvPr/>
        </p:nvPicPr>
        <p:blipFill>
          <a:blip r:embed="rId1"/>
          <a:stretch/>
        </p:blipFill>
        <p:spPr>
          <a:xfrm>
            <a:off x="938160" y="1676520"/>
            <a:ext cx="72676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Basal angiosperms"/>
          <p:cNvPicPr/>
          <p:nvPr/>
        </p:nvPicPr>
        <p:blipFill>
          <a:blip r:embed="rId1"/>
          <a:stretch/>
        </p:blipFill>
        <p:spPr>
          <a:xfrm>
            <a:off x="1495440" y="1600200"/>
            <a:ext cx="6227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Angiosperms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images"/>
          <p:cNvPicPr/>
          <p:nvPr/>
        </p:nvPicPr>
        <p:blipFill>
          <a:blip r:embed="rId1"/>
          <a:stretch/>
        </p:blipFill>
        <p:spPr>
          <a:xfrm>
            <a:off x="906480" y="609480"/>
            <a:ext cx="73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how4"/>
          <p:cNvPicPr/>
          <p:nvPr/>
        </p:nvPicPr>
        <p:blipFill>
          <a:blip r:embed="rId1"/>
          <a:stretch/>
        </p:blipFill>
        <p:spPr>
          <a:xfrm>
            <a:off x="1577880" y="1981080"/>
            <a:ext cx="598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 are photo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composed of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strial plants are ses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s for other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uses (medicines, clothing, wood, paper products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from anci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ophy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reen alg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characteristics with present-day charophytes: chlorophy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ther pigments, formation of cell plate, cellulose in cell wall, use of starch as storage molecul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5" descr="Figure_26_01_06.jpg"/>
          <p:cNvPicPr/>
          <p:nvPr/>
        </p:nvPicPr>
        <p:blipFill>
          <a:blip r:embed="rId1"/>
          <a:srcRect l="-5715" t="0" r="-5715" b="0"/>
          <a:stretch/>
        </p:blipFill>
        <p:spPr>
          <a:xfrm>
            <a:off x="539640" y="549360"/>
            <a:ext cx="8064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 to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strategies to prevent water loss while allowing gas exchang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m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2" descr="2006-10-05_174206_monocot_leaf.jpg"/>
          <p:cNvPicPr/>
          <p:nvPr/>
        </p:nvPicPr>
        <p:blipFill>
          <a:blip r:embed="rId1"/>
          <a:srcRect l="0" t="-25554" r="0" b="-25554"/>
          <a:stretch/>
        </p:blipFill>
        <p:spPr>
          <a:xfrm>
            <a:off x="4427640" y="1700280"/>
            <a:ext cx="4321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Major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4" descr="plantkingdom.gif"/>
          <p:cNvPicPr/>
          <p:nvPr/>
        </p:nvPicPr>
        <p:blipFill>
          <a:blip r:embed="rId1"/>
          <a:srcRect l="-30125" t="0" r="-30125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phpThumb"/>
          <p:cNvPicPr/>
          <p:nvPr/>
        </p:nvPicPr>
        <p:blipFill>
          <a:blip r:embed="rId1"/>
          <a:stretch/>
        </p:blipFill>
        <p:spPr>
          <a:xfrm>
            <a:off x="685800" y="819000"/>
            <a:ext cx="7772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4" descr="Moss_alternation_of_generations_03-2012.png"/>
          <p:cNvPicPr/>
          <p:nvPr/>
        </p:nvPicPr>
        <p:blipFill>
          <a:blip r:embed="rId1"/>
          <a:srcRect l="-6662" t="0" r="-6662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3:08:23Z</dcterms:created>
  <dc:creator>rubina khan</dc:creator>
  <dc:description/>
  <dc:language>en-US</dc:language>
  <cp:lastModifiedBy>rubina khan</cp:lastModifiedBy>
  <dcterms:modified xsi:type="dcterms:W3CDTF">2017-04-03T10:41:07Z</dcterms:modified>
  <cp:revision>43</cp:revision>
  <dc:subject/>
  <dc:title>PowerPoint Presentation</dc:title>
</cp:coreProperties>
</file>